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B0B-5C6E-47DB-929F-0CF14A12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CCF-4FAF-44BA-8E08-BA15D41C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BFF-1ABB-4F99-B293-1A492286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B01-B31D-410B-ABC8-F6C0B94F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3E6E-AF45-45B6-B9A9-B6C3DE5A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4CB2-DD3E-4ED3-94F6-CD91E54F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180E-16E2-4C1B-8926-7F321A4A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117B-7B19-48E1-AF90-7A35EA3A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0216-EBD1-41E8-992F-A0F6598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0880" y="-276120"/>
            <a:ext cx="8605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301D-2457-40CE-A516-237AEA15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24AF-8297-4E4D-937E-92F9008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6ED-E91F-4815-AC3B-68EE3BD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8A8A-8D50-415A-ADC1-E517BA88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83E3-D7F0-43D3-8A44-6FDE336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8532-DE94-4220-A279-7B35C63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A2E4-8599-4360-B967-6D45F76C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FF4F-AC7E-431F-8511-979CD7FD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D2A3-BA81-489A-B0A4-CAF4EA4F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C7F8-232E-470D-86D7-6A93A391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416B-9C6A-4523-A8CD-8C624A1A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4708F-395A-4D9A-B66F-61193B4D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87D3-27F5-4203-91E6-ADB43BA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98A-B707-4B44-9A74-32CF5425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-276120"/>
            <a:ext cx="8605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143F6-CD20-40F6-A913-99BB7FB0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84F6-F293-4D50-B4EA-C4DD8AF2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C108-24D7-4D72-9B53-3E87212B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76DD-EB15-4CE3-9CD4-8AD449B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7BAD-A9F1-4A56-BF41-ED1BDE3B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A10B2-B6DA-4341-BFC0-61B848E0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2C43-B7C8-47DC-BF53-66408DEB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40AD-719F-49A7-B337-30F902C9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BACB-07C7-41A6-94FF-C8E2DCD0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57E22-D004-4E16-A25B-D2E36A25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44D-E4CD-4380-9689-180E394A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6DE7-9667-4EDF-8287-BAC4725E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3BA0-75B9-42AC-9AA1-950A6415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40880" y="-276120"/>
            <a:ext cx="8605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F44B-3F73-422F-9BE6-C9207BF6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259B8-F89F-4E76-8892-140F955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03A8-82B1-4A60-BDC7-CFC3EC91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50500-D33F-4615-A890-FC60115A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D5C21-58BE-432D-AD48-1D6B3CFE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C591-3780-4F1F-8CA0-AD34A67D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F33E-D263-4BA1-9EBD-FD09FA08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B34-DB95-4974-8A95-56AEDD62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0880" y="-276120"/>
            <a:ext cx="8605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-276120"/>
            <a:ext cx="8605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AA0-F5A9-4A57-9EC2-AD0E3B9D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B23-7B29-4B60-BF05-4E7E5A0A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D36-19D1-4A1D-979D-9C9E6DA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711-40A7-4285-95CA-312ADD7A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47A4C1-D4CF-46B9-AA61-4CB2FD8CC87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D56FCD-619A-40DF-8F9F-C53302F3840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2A638F-20B1-41E8-99C1-7B8CE4AAAEA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011B14-DB84-4F65-864F-EF33815E40C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0720" y="-54000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Bezdrátové technologi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897200" y="2565360"/>
            <a:ext cx="63007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1240" y="-55908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Wif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je jednaz nejpoužívanějších bezdrátový technologií-díky ní se můžeme bezdrátově ořipojit k internetu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používá se v 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restauracích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firmách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domovech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-55908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cs-CZ" sz="4000" spc="-1" strike="noStrike">
                <a:solidFill>
                  <a:srgbClr val="23ff23"/>
                </a:solidFill>
                <a:latin typeface="Arial"/>
              </a:rPr>
              <a:t>Označení Wif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182680" y="2279520"/>
            <a:ext cx="5940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-235440"/>
            <a:ext cx="86076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cs-CZ" sz="4000" spc="-1" strike="noStrike">
                <a:solidFill>
                  <a:srgbClr val="23ff23"/>
                </a:solidFill>
                <a:latin typeface="Arial"/>
              </a:rPr>
              <a:t>Kvíz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28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Jaká zkrakta se používá pro navigační technologie?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Kde se používá bezdrátová technologie?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Jaké barvy má logo Bluetooth?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K čemu používáme bezdrátovou technologii?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Kde se používá Wifi?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Na jakou vzdálenost se díky GPS dá určit poloha?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V kterém roce bylo vinalezeno Bleutooth?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1240" y="-276480"/>
            <a:ext cx="86076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cs-CZ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Autoři : Marek Novotný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Vojta Polanský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Aleš Pohořálek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 u="sng">
                <a:solidFill>
                  <a:srgbClr val="3deb3d"/>
                </a:solidFill>
                <a:uFillTx/>
                <a:latin typeface="Arial"/>
              </a:rPr>
              <a:t> </a:t>
            </a:r>
            <a:r>
              <a:rPr b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Bezdrátová komunikac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8000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Bezdrátová komunikace spočívá ve spojení dvou subjektů jiným způsobem než kabelem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 vzdálenost mezi komunikujícími body může být od několika metrů do miliónů kilometrů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 bezdrátová technologie je např. Bluetooth, GPRS, GPS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1240" y="-55908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Druhy Bezdrárové technologi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6000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Infračervené světlo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Bluetooth- v moboilu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GPS(Navigační technologie) ukáže nám kudy máme jí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GPRS(General Packet Radio Service) umožnuje přeposílat zprávy a připojení k internetu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1240" y="-55908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Ukázka předmětů používaných při </a:t>
            </a:r>
            <a:r>
              <a:rPr b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Bezdrátové technologi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89000" y="2224080"/>
            <a:ext cx="41371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432400" y="2224080"/>
            <a:ext cx="41371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432400" y="4711680"/>
            <a:ext cx="41371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3280" y="4319640"/>
            <a:ext cx="43560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6119640" y="1979640"/>
            <a:ext cx="2160720" cy="216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870120" y="1996920"/>
            <a:ext cx="3809880" cy="2143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3767040" y="468000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Global position system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je vojenský globální polohový systém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 s pomocí GPS lze určit přesnou polohu, nebo čas kdekoliv na zemi i ve vesmíru s přesností na 10 metrů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 nejznámější použití GPS je v navigaci v   automobilech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-55908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Jak to funguje u GPS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102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uživatelé pomocí GPS p</a:t>
            </a: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řijímače přijímají signály z jednotlivých družic, které jsou v danou chvíli nad obzorem. Na základě přijatých dat a předem definovaných parametrů přijímač vypočítá polohu antény, nadmořskou výšku a zobrazí přesné datum a čas. Komunikace probíhá pouze od družic k uživateli, GPS přijímač je tedy pasiv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-55908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cs-CZ" sz="4000" spc="-1" strike="noStrike">
                <a:solidFill>
                  <a:srgbClr val="23ff23"/>
                </a:solidFill>
                <a:latin typeface="Arial"/>
              </a:rPr>
              <a:t>General packet radio servic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 GPRS je služba umožňující přenos dat a připojení k internetu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 k využití služby GPRS je potřeba mobilní telefon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 GPRS dosahuje rychlosti až 200 kbit/s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Bluetooth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Bluetooth se dokáže propojit s dvěmi a více elektronickými zařízeními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 pomocí buetoothu lze přenést soubory z jednoho mobilu do druhého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- Buetooth byl vytvořen roku 1994 firmou Ericcson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-55908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cs-CZ" sz="4000" spc="-1" strike="noStrike" u="sng">
                <a:solidFill>
                  <a:srgbClr val="23ff23"/>
                </a:solidFill>
                <a:uFillTx/>
                <a:latin typeface="Arial"/>
              </a:rPr>
              <a:t>Označení Bluetooh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879640" y="2351160"/>
            <a:ext cx="504036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7:59:39Z</dcterms:created>
  <dc:creator>Martin Novotný</dc:creator>
  <dc:description/>
  <dc:language>en-US</dc:language>
  <cp:lastModifiedBy>s-mnovotny</cp:lastModifiedBy>
  <dcterms:modified xsi:type="dcterms:W3CDTF">2012-11-29T09:51:02Z</dcterms:modified>
  <cp:revision>27</cp:revision>
  <dc:subject/>
  <dc:title>  Bezdrátové technologii</dc:title>
</cp:coreProperties>
</file>