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43D3-C6C9-4C14-88BF-2D781E382B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32C9-237E-4AD7-B710-4915990A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0781-EB71-4AE6-B674-D591E06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C01D-3898-4D14-9A90-BB9BED57F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783DE-6D3F-4AC1-BCEC-CCB4E3441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EAA84-1CF2-4DB9-B161-06CC0DF0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C606C-3ACC-4DE0-8960-5F0DC73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0875D-F189-4CFC-B433-BEB947CC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75195-EBCD-4FBB-BB58-00AC436E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71B01-9751-429E-96B1-4C0B91C5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67CE0-B1B1-4BB8-8FBC-D740B560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8E5B-3757-4905-8FC9-DDE06E55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CA798-C586-4A63-8A74-249914FA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BB0B5-CB62-4CA7-9E57-21FFD5E5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5DA08-F57A-4428-8917-17A58909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3D8F0-4D1B-4E8D-9D26-37AFA5C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D7A2C-0D32-4912-8539-FF5ED14DB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BD73-C2B3-4CA9-A5FC-96592E4B7D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3A57-7A28-402C-B37E-640824EA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5C02-B366-44CF-B3F4-CBC73E02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FB80-593D-421E-8213-84E2EB2E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3A5D-7E52-436F-9DB2-6334AF72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3ACF-1EB3-4DBA-ACCE-53B998B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7584-2430-4BB5-B8A7-83ECF240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1874-A7C8-4A75-AE1A-2CF0439A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BEF-D1BC-4B71-95B8-21B6396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088D-F5D6-4714-9582-C9FC4C29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0D44-C398-49E1-9674-A33F6529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BA4A-A975-4378-97DC-07DA516A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138A-8EAB-4147-B4D3-954E60B7F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12106-82BC-4ADF-A68A-837263C88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4D87A-34F5-4311-9792-10B674DF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E160B-19EA-4744-847E-37A893F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6E6D-2B2A-434A-BBEC-545BDCE1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CFBFC-0B63-48D7-9434-F415A7E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6574D-6562-4452-87EF-A57765E3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2664D-D26F-4B29-A4F2-B89FFB42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1DE66-0E5F-4BF4-BB14-75FF608D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83528-E650-4891-9631-5255B587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91B6E-67FD-45F8-9BBE-F2482179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7B7A8-32B8-4803-BF3D-4A65BB93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9CC92-736C-4EC4-AAE9-F988FF36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E7692-AE0F-429A-AF3A-678F91DA3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F01A7-3631-42B3-ACA6-B3B7CF958D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55CB-9EB3-4DB8-8555-F08BBC39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89056-D0D4-46C4-8578-CA47F29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BD2B2-246C-458C-8B55-4C87DB6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01013-9E24-4935-BA17-4E4C421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AD0C5-BF38-473E-B4ED-DADEE2B9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878D0-3B21-411D-A9DF-B5AED0F0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81566-E6C9-4E71-A1FD-8E48D602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C8C76-EBDB-40EA-8447-D06DFB56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0ACAC-F007-4B3D-B08A-9FA35936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D799F-67FB-484B-A70D-E077493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2944D-3268-49C5-B6B4-7E9A4A5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E778-3B56-4DDF-AFD2-A55FADCD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102C2-F420-405D-B701-4F4AFAAB6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C1F4-0D95-43C1-9E54-959E372809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0CB8-1948-43E7-9716-9A1D1C24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BA6E-AA0D-4BB7-B1D8-DADD34C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2849-67C4-4AF1-B0C7-3D01683A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42F8-8410-46E1-8CA0-109C6097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63B1-F901-4F4F-B8DD-4B06C024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FDAD-9E64-4761-AE4C-563BCE31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0FF2-551C-4813-8A35-890978B4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CB07-3A36-41A2-9FAB-5C3A12DE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77AD-20FC-4746-9D72-81A725C1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C597-9F0D-4F80-B9D3-3E88CC88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14BB-3871-44DD-A811-20CEDF60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5B6C-8778-4569-A661-65269F4B3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BC0B0-0BB2-4C40-B7EB-F15430E04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2A9B4-66AE-48FA-B017-528E8C6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0CBDB-661D-4D87-9A20-3A54529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84BE6-96FB-4DF6-967A-BA189A48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20A47-C017-4680-8A0C-CE0A07F6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280"/>
            <a:ext cx="7770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7C8CB-B170-473C-9660-28824E2E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2A67B-B701-4825-B95B-67CFDCE0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202E-9387-4546-B5CF-1AD90B6B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14531-8437-4563-ADE3-946434AD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B7778-830E-439B-9931-B31DBED0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E6EF9-AC4C-4DFB-A9F4-72908B69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6360" y="417132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5F9C4-5D28-4070-855D-7517D1D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04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69320" y="178416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04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69320" y="417132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554BB-FE4A-424B-B34B-1719FABD0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6360" y="178416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132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0D91-1F37-4FC9-ABFB-A419E06E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304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14400" y="64134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8610480" y="6413040"/>
            <a:ext cx="45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083218-B10A-415B-8FA9-947B16444980}" type="slidenum"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4A050F-7428-4CB3-9E77-0AC3448E54AC}" type="slidenum">
              <a: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220000">
            <a:off x="446436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9DAEF4-8D02-4133-B484-CBEBCAB9F5BF}" type="slidenum">
              <a: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8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D76652-FE6D-4DF8-81BE-65A3EF71D759}" type="slidenum">
              <a: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9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0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82AED3-64B6-40A4-A8F1-879B09C93645}" type="slidenum">
              <a: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1"/>
          </p:nvPr>
        </p:nvSpPr>
        <p:spPr>
          <a:xfrm>
            <a:off x="647712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3D01E4-670E-4088-AF2A-53125EF2FA92}" type="slidenum">
              <a: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600" y="1884240"/>
            <a:ext cx="8781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8516880" y="1217520"/>
            <a:ext cx="127080" cy="133560"/>
            <a:chOff x="8516880" y="1217520"/>
            <a:chExt cx="127080" cy="133560"/>
          </a:xfrm>
        </p:grpSpPr>
        <p:sp>
          <p:nvSpPr>
            <p:cNvPr id="316" name=""/>
            <p:cNvSpPr/>
            <p:nvPr/>
          </p:nvSpPr>
          <p:spPr>
            <a:xfrm>
              <a:off x="8572680" y="1217520"/>
              <a:ext cx="71280" cy="65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16880" y="1282680"/>
              <a:ext cx="101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572680" y="1281240"/>
              <a:ext cx="71280" cy="6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8669160" y="1370160"/>
            <a:ext cx="130320" cy="133200"/>
            <a:chOff x="8669160" y="1370160"/>
            <a:chExt cx="130320" cy="133200"/>
          </a:xfrm>
        </p:grpSpPr>
        <p:sp>
          <p:nvSpPr>
            <p:cNvPr id="320" name=""/>
            <p:cNvSpPr/>
            <p:nvPr/>
          </p:nvSpPr>
          <p:spPr>
            <a:xfrm>
              <a:off x="8726400" y="1370160"/>
              <a:ext cx="73080" cy="64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669160" y="1434960"/>
              <a:ext cx="10188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26400" y="1433520"/>
              <a:ext cx="73080" cy="6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8321760" y="1473120"/>
            <a:ext cx="127080" cy="133560"/>
            <a:chOff x="8321760" y="1473120"/>
            <a:chExt cx="127080" cy="133560"/>
          </a:xfrm>
        </p:grpSpPr>
        <p:sp>
          <p:nvSpPr>
            <p:cNvPr id="324" name=""/>
            <p:cNvSpPr/>
            <p:nvPr/>
          </p:nvSpPr>
          <p:spPr>
            <a:xfrm>
              <a:off x="8377200" y="1473120"/>
              <a:ext cx="71640" cy="65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21760" y="1538280"/>
              <a:ext cx="101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377200" y="1536840"/>
              <a:ext cx="71640" cy="69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0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160"/>
            <a:ext cx="77709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6477120" y="5400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1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5400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4"/>
          </p:nvPr>
        </p:nvSpPr>
        <p:spPr>
          <a:xfrm>
            <a:off x="8610480" y="54000"/>
            <a:ext cx="455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E3386B-E2B9-43F9-86F9-4D3564DF8F20}" type="slidenum">
              <a:rPr b="0" lang="cs-CZ" sz="1200" spc="-1" strike="noStrike">
                <a:solidFill>
                  <a:srgbClr val="d6ecff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\\upload.wikimedia.org\wikipedia\commons\5\5b\Firewall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mic"/>
                <a:ea typeface="Times New Roman"/>
              </a:rPr>
              <a:t>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 informatice sada všech počítačových programů používaných v počítači, které provádějí nějakou činnost. Software lze rozdělit na systémový software, který zajišťuje chod samotného počítače a jeho styk s okolím a na aplikační software, se kterým buď pracuje uživatel počítače nebo zajišťuje řízení nějakého stroj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Ochran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Firewall (Ohnivá zeď) je síťové zařízení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které slouží k řízení a zabezpečování síťového provozu mezi sítěmi s různou úrovní důvěryhodnosti a zabezpečení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797360"/>
            <a:ext cx="316872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Rozdělení softwa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OVÝ SOFTWARE – umožňuje efektivní používání počítač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PERAČNÍ SYSTÉM – spravuje počítač, vytváří prostředí pro progra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PLIKAČNÍ SOFTWARE – umožňuje uživateli vykonávat nějakou užitečnou činnost např: grafické programy, vývojové nástroje a zábavní softw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Operační systé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Operační systém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je v informatice základní programové vybavení počítače, které je zavedeno do paměti počítače při jeho startu a zůstává v činnosti až do jeho vypnutí. Skládá se z jádra a pomocných systémových nástrojů. Hlavním úkolem operačního systému je zajistit uživateli možnost ovládat počítač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součastnosti jsou operační systémy i v některých mobilech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Funkce 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perační systém plní tři základní funk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LÁDÁNÍ POČÍTAČE – umožňuje uživateli spouštět program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BSTRAKCE HARDWARE – vytváří rozhraní pro program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PRÁVA PROSTŘEDKŮ – přiděluje a odebírá procesům systémové prostředky počítač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Příklady 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ítače: Windows, Linu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bilní telefony: Android, iOS (App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286240" y="2357280"/>
            <a:ext cx="1309680" cy="15717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357720" y="5357880"/>
            <a:ext cx="1334880" cy="10000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929200" y="5357880"/>
            <a:ext cx="1193760" cy="11430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2340000" y="249228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1784520"/>
            <a:ext cx="845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5500" spc="-1" strike="noStrike">
                <a:solidFill>
                  <a:srgbClr val="ffffff"/>
                </a:solidFill>
                <a:latin typeface="Constantia"/>
              </a:rPr>
              <a:t>Dávali jste pozor???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Kvíz </a:t>
            </a:r>
            <a:r>
              <a:rPr b="0" lang="cs-CZ" sz="4000" spc="-1" strike="noStrike">
                <a:solidFill>
                  <a:srgbClr val="c1eeff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1784520"/>
            <a:ext cx="860436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Jak se jmenuje nejznámější softwarová fir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Kdy se objevila první softwarová chyb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Jak se nazývá program pro přehrávání videí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4. Jak se nazývá počítačový program určený ke vniknutí nebo poškození počítačového systému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5. Když si někdo v minulosti koupil minipočítač, měl v něm předinstalovaný software? Ano /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6. Jak se nazývá síťové zařízení, které slouží k řízení a zabezpečování síťového provozu mezi sítěmi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7. Jsou operační systémy v některých mobilech? Ano /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8. Jaké zvíře má ve svém znaku Linux?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Histor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istorie počítačového softwaru se začíná psát v ro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946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kdy se objevila první programová chyba softwar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dyž si zákazník koupil minipočítač, v té době nejmenší počítač na trhu,  počítač neobsahoval žádný předinstalovaný software. A musel být nainstalován inženýry u O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Arial"/>
              </a:rPr>
              <a:t>Kdo je tento muž? </a:t>
            </a:r>
            <a:r>
              <a:rPr b="0" lang="cs-CZ" sz="4000" spc="-1" strike="noStrike">
                <a:solidFill>
                  <a:srgbClr val="c1ee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784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spoluzakladatelem a předsedou firmy Microsoft, která na trh dodává operační systém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dle časopisu Forbes byl v roce 2011 druhým nejbohatším mužem planety, jeho jmění se odhaduje na 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miliard amerických dolarů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2952720" cy="201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Arial"/>
              </a:rPr>
              <a:t>A správná odpověď zní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……………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Bill Gate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perační systémy od Microsoft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na trhu již od roku 1984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icrosoft také vyvinul programy jako Word, Media Player a PowerPoint, díky němuž vznikla tato prezenta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732720" y="19162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Microsoft Offi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5360" indent="-339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ffice je kancelářský balík od Microsof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5360" indent="-339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werpoint je nástroj na tvorbu a přehrávání prezentací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5360" indent="-339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edia Player slouží k přehrávání multimediálních zařízení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5360" indent="-339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Excel je tabulkový procesor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995640" y="220500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227640" y="4905360"/>
            <a:ext cx="244800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Škodlivý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1268280"/>
            <a:ext cx="777240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096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ftware může provádět i nezamýšlenou činnost a v takovém případě hovoříme buď o programátorské chybě nebo o  počítačových virech, malware, spyware, trojských koních a podobném nežádoucím software. Důvodem existence nežádoucího software jsou zlé nebo nečestné úmysly jejích tvůrců, kteří zneužívají chyb ostatních softw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Malwa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Malwar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je počítačový program určený ke vniknutí nebo poškození počítačového systému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noho dříve nakažlivých programů bylo původně napsáno jako experimenty, či žerty. Jejich původní záměr byl neškodný nebo pouze otravný, ne aby způsobil vážné škody počítačovým systémům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9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Trojští koně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9680" indent="-343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ecně je Trojský kůň jakýkoliv program, který vybízí uživatele ke spuštění, přičemž mu zatajuje nebezpečí či skryté platby. Platba může mít okamžitý efekt a může vést k mnoha dalším nežádoucím věcem, jako je smazání uživatelských souborů nebo k instalaci dalšího zákeřného a nežádoucího softwaru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77a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1eeff"/>
                </a:solidFill>
                <a:latin typeface="Consolas"/>
              </a:rPr>
              <a:t>Spywa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5360" indent="-3394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Spywar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je program, který využívá internetu k odesílání dat z počítače bez vědomí jeho uživatele. Někteří autoři spyware se hájí, že jejich program odesílá pouze data typu přehled navštívených stránek či nainstalovaných programů za účelem zjištění potřeb nebo zájmů uživatele a tyto informace využít pro cílenou reklamu. Existují ale i spyware odesílající hesla a čísla kreditních kar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41:16Z</dcterms:created>
  <dc:creator>s-jnovotny</dc:creator>
  <dc:description/>
  <dc:language>en-US</dc:language>
  <cp:lastModifiedBy>MŠ</cp:lastModifiedBy>
  <dcterms:modified xsi:type="dcterms:W3CDTF">2012-02-29T17:07:57Z</dcterms:modified>
  <cp:revision>14</cp:revision>
  <dc:subject/>
  <dc:title>Software</dc:title>
</cp:coreProperties>
</file>