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FCDB-0233-4B37-B1F5-2F390127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798192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280" y="4565160"/>
            <a:ext cx="798192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60AC-9D19-4FB8-AFBB-8E559A6E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24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280" y="456516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240" y="456516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C593-8AA3-4951-957C-8B7C896D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02200" y="177444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01120" y="177444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" y="456516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02200" y="456516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01120" y="456516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3FF6-EF05-4AE0-B772-3110BC96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13A1-0071-41F4-A568-5C499105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3280" y="1774440"/>
            <a:ext cx="7981920" cy="53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CACA-37A0-486F-98FB-CB80E7BA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798192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9BF0-7AE4-4CF1-9303-819AE3BC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389484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3240" y="1774440"/>
            <a:ext cx="389484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CEF7-6728-42FC-9E07-37C354C6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1E2D-CB1C-4060-AF5B-ED86B208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03280" y="352080"/>
            <a:ext cx="7981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DFDB-57B1-484C-A52B-0B5E5A0D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240" y="1774440"/>
            <a:ext cx="389484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280" y="456516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D0A6-3BF3-4062-99C7-EAC8178B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3280" y="1774440"/>
            <a:ext cx="7981920" cy="53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9961-0842-4CA9-8717-AE71030F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389484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24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3240" y="456516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BF21-628F-475E-AAB0-73D0BF04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24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565160"/>
            <a:ext cx="798192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1646-38E5-4543-82CE-6303126D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798192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3280" y="4565160"/>
            <a:ext cx="798192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322F-AD61-4F57-91CD-4CF36FB7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324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" y="456516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3240" y="456516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59C2-AB2E-4DC4-ADC7-5199493B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02200" y="177444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01120" y="177444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3280" y="456516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02200" y="456516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01120" y="456516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5859-D9B2-4C64-92CB-A4C31DF6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BA766-D76D-445F-AEB1-906A02C0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03280" y="1774440"/>
            <a:ext cx="7981920" cy="53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37AB5-F075-4F39-B671-795B7FE9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798192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75A7A-3919-4836-B6F2-F8371CB1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389484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93240" y="1774440"/>
            <a:ext cx="389484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1448B-3D04-424F-AB78-01AD5E91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24200-5111-4C41-A15D-BD84F1F8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798192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580F-A5E8-4D6B-9CE6-3D4ABA72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03280" y="352080"/>
            <a:ext cx="7981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65AD0-111E-405F-8B53-1607A948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93240" y="1774440"/>
            <a:ext cx="389484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3280" y="456516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5CE94-E600-4E5D-A155-D83AC938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389484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9324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93240" y="456516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4E378-349E-45B1-ACCC-C4C64B37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324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3280" y="4565160"/>
            <a:ext cx="798192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9C52A-2DEF-4DDC-9986-F1F1EF48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798192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3280" y="4565160"/>
            <a:ext cx="798192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86828-B243-461A-9306-D0B7B19D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9324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3280" y="456516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93240" y="456516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864D5-21BA-4917-8F0A-B3A4A978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02200" y="177444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01120" y="177444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03280" y="456516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02200" y="456516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01120" y="456516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B36FF-BEA6-40C4-8C5D-5B6CC359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0DC51-3121-4464-A20D-ACFC22CE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3280" y="1774440"/>
            <a:ext cx="7981920" cy="53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F026F-14CE-4A09-95FA-A9198865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798192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B8437-95F1-40A7-8454-876BC5B8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389484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240" y="1774440"/>
            <a:ext cx="389484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647-51AE-438A-844A-C0C04E0B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389484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93240" y="1774440"/>
            <a:ext cx="389484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08F38-17AD-434B-9EE6-53FE51D6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CBE2E-D6B4-4D23-8E27-44B6BDE7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03280" y="352080"/>
            <a:ext cx="7981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FCBB6-18FA-4900-B974-DED4CCEF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93240" y="1774440"/>
            <a:ext cx="389484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456516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A62A6-B215-4437-8616-6C05246C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389484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9324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93240" y="456516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B6E5D-7D99-4903-9D42-F742E3E4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9324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4565160"/>
            <a:ext cx="798192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C8E48-68A3-425E-9863-94A8993E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798192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3280" y="4565160"/>
            <a:ext cx="798192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7835E-70D1-4E25-A852-2BF55969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9324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456516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93240" y="456516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C5106-BFAE-43C5-8666-CDDB4285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02200" y="177444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01120" y="177444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3280" y="456516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02200" y="456516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01120" y="456516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CEFA2-CC7C-45F8-BC44-C0DB6425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7556A-A918-4753-A439-36B2704E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BA7F-CC48-42E7-903E-313FCCEE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1774440"/>
            <a:ext cx="7981920" cy="53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DCFCB-77C0-40A8-9D7C-13888B01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798192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D720E-2C63-48B9-8310-2BE58DA3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389484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93240" y="1774440"/>
            <a:ext cx="389484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6ABAC-56DB-4E40-9F4F-E6BFC03C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4D8D2-D51F-4028-9FCD-E67971D7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352080"/>
            <a:ext cx="7981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6EF9A-AA9F-410F-ADEF-91849882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93240" y="1774440"/>
            <a:ext cx="389484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456516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C644F-F0C8-422F-89DC-C085BCCC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389484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9324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93240" y="456516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A9A38-2366-4493-9F70-C8A4CCE0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9324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4565160"/>
            <a:ext cx="798192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0BF99-FAC9-4B59-B4F3-BFC4ACDE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798192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4565160"/>
            <a:ext cx="798192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0934D-3198-4CEB-A21B-2A3DDB06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9324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456516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93240" y="456516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F7ED9-A3FA-4579-9257-14F25501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3280" y="352080"/>
            <a:ext cx="7981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3F50-4373-49A1-82B2-21CDCCED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02200" y="177444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01120" y="177444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456516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02200" y="456516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01120" y="456516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BDCAE-6998-4FD0-B363-8408741D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503280" y="1774440"/>
            <a:ext cx="7981920" cy="53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798192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389484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93240" y="1774440"/>
            <a:ext cx="389484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03280" y="352080"/>
            <a:ext cx="7981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93240" y="1774440"/>
            <a:ext cx="389484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3280" y="456516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389484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9324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93240" y="456516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9324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3280" y="4565160"/>
            <a:ext cx="798192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240" y="1774440"/>
            <a:ext cx="389484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280" y="456516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5B18-C4D4-408F-A2E2-B8704A0D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798192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3280" y="4565160"/>
            <a:ext cx="798192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9324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3280" y="456516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93240" y="456516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02200" y="177444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1120" y="177444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03280" y="456516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02200" y="456516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1120" y="4565160"/>
            <a:ext cx="25700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389484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24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240" y="456516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B368-E8A2-45CB-B0B1-EE1B76F3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240" y="1774440"/>
            <a:ext cx="389484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3280" y="4565160"/>
            <a:ext cx="7981920" cy="254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A8FE-C2A4-4A23-951D-0B61DCE4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bdélník 8"/>
          <p:cNvGrpSpPr/>
          <p:nvPr/>
        </p:nvGrpSpPr>
        <p:grpSpPr>
          <a:xfrm>
            <a:off x="8985240" y="-6480"/>
            <a:ext cx="1103400" cy="7570800"/>
            <a:chOff x="8985240" y="-6480"/>
            <a:chExt cx="1103400" cy="7570800"/>
          </a:xfrm>
        </p:grpSpPr>
        <p:pic>
          <p:nvPicPr>
            <p:cNvPr id="1" name="Obdélník 8" descr=""/>
            <p:cNvPicPr/>
            <p:nvPr/>
          </p:nvPicPr>
          <p:blipFill>
            <a:blip r:embed="rId3"/>
            <a:stretch/>
          </p:blipFill>
          <p:spPr>
            <a:xfrm>
              <a:off x="8985240" y="-6480"/>
              <a:ext cx="1103400" cy="757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988480" y="0"/>
              <a:ext cx="1092240" cy="75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03280" y="1774440"/>
            <a:ext cx="798192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1" marL="573120" indent="-25092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2" marL="835200" indent="-250920">
              <a:spcBef>
                <a:spcPts val="663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3" marL="1108080" indent="-25092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4" marL="1409760" indent="-250920">
              <a:spcBef>
                <a:spcPts val="663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5" marL="140976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6" marL="140976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681440" y="7229520"/>
            <a:ext cx="2206800" cy="24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02920" y="7229160"/>
            <a:ext cx="4032360" cy="25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891120" y="7225920"/>
            <a:ext cx="649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ED267AC5-5933-4556-A26E-5F8F8E673EC6}" type="slidenum"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Obdélník 7"/>
          <p:cNvGrpSpPr/>
          <p:nvPr/>
        </p:nvGrpSpPr>
        <p:grpSpPr>
          <a:xfrm>
            <a:off x="2932200" y="-6480"/>
            <a:ext cx="7156440" cy="7570800"/>
            <a:chOff x="2932200" y="-6480"/>
            <a:chExt cx="7156440" cy="7570800"/>
          </a:xfrm>
        </p:grpSpPr>
        <p:pic>
          <p:nvPicPr>
            <p:cNvPr id="45" name="Obdélník 7" descr=""/>
            <p:cNvPicPr/>
            <p:nvPr/>
          </p:nvPicPr>
          <p:blipFill>
            <a:blip r:embed="rId3"/>
            <a:stretch/>
          </p:blipFill>
          <p:spPr>
            <a:xfrm>
              <a:off x="2932200" y="-6480"/>
              <a:ext cx="7156440" cy="757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940120" y="0"/>
              <a:ext cx="7140600" cy="75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římá spojnice 9"/>
          <p:cNvSpPr/>
          <p:nvPr/>
        </p:nvSpPr>
        <p:spPr>
          <a:xfrm flipV="1">
            <a:off x="2940120" y="-360"/>
            <a:ext cx="0" cy="755964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03280" y="1774440"/>
            <a:ext cx="798192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1" marL="573120" indent="-25092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2" marL="835200" indent="-250920">
              <a:spcBef>
                <a:spcPts val="663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3" marL="1108080" indent="-25092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4" marL="1409760" indent="-250920">
              <a:spcBef>
                <a:spcPts val="663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5" marL="140976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6" marL="140976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72080" y="7229520"/>
            <a:ext cx="2208240" cy="24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07880" y="7229160"/>
            <a:ext cx="3227400" cy="25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688240" y="7225920"/>
            <a:ext cx="64800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4D748B00-BE54-4119-9BE9-86A4E6FF24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bdélník 8"/>
          <p:cNvGrpSpPr/>
          <p:nvPr/>
        </p:nvGrpSpPr>
        <p:grpSpPr>
          <a:xfrm>
            <a:off x="8985240" y="-6480"/>
            <a:ext cx="1103400" cy="7570800"/>
            <a:chOff x="8985240" y="-6480"/>
            <a:chExt cx="1103400" cy="7570800"/>
          </a:xfrm>
        </p:grpSpPr>
        <p:pic>
          <p:nvPicPr>
            <p:cNvPr id="90" name="Obdélník 8" descr=""/>
            <p:cNvPicPr/>
            <p:nvPr/>
          </p:nvPicPr>
          <p:blipFill>
            <a:blip r:embed="rId3"/>
            <a:stretch/>
          </p:blipFill>
          <p:spPr>
            <a:xfrm>
              <a:off x="8985240" y="-6480"/>
              <a:ext cx="1103400" cy="757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988480" y="0"/>
              <a:ext cx="1092240" cy="75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503280" y="1774440"/>
            <a:ext cx="798192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1" marL="573120" indent="-25092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2" marL="835200" indent="-250920">
              <a:spcBef>
                <a:spcPts val="663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3" marL="1108080" indent="-25092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4" marL="1409760" indent="-250920">
              <a:spcBef>
                <a:spcPts val="663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5" marL="140976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6" marL="140976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208480" y="7227360"/>
            <a:ext cx="2206800" cy="24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913040" y="7227720"/>
            <a:ext cx="3192480" cy="25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422840" y="7225920"/>
            <a:ext cx="64908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EB17F27A-A2C9-452B-8003-DCB35947AFE5}" type="slidenum"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bdélník 7"/>
          <p:cNvSpPr/>
          <p:nvPr/>
        </p:nvSpPr>
        <p:spPr>
          <a:xfrm rot="21240000">
            <a:off x="658440" y="1108080"/>
            <a:ext cx="4762440" cy="475308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bdélník 9"/>
          <p:cNvSpPr/>
          <p:nvPr/>
        </p:nvSpPr>
        <p:spPr>
          <a:xfrm rot="21420000">
            <a:off x="657360" y="1101240"/>
            <a:ext cx="4762440" cy="475308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03280" y="1774440"/>
            <a:ext cx="798192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1" marL="573120" indent="-25092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2" marL="835200" indent="-250920">
              <a:spcBef>
                <a:spcPts val="663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3" marL="1108080" indent="-25092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4" marL="1409760" indent="-250920">
              <a:spcBef>
                <a:spcPts val="663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5" marL="140976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6" marL="140976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681440" y="7229520"/>
            <a:ext cx="2206800" cy="24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502920" y="7229160"/>
            <a:ext cx="4032360" cy="25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891120" y="7225920"/>
            <a:ext cx="649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60182826-A376-4F3E-890D-AB247448EB45}" type="slidenum"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Obdélník 8"/>
          <p:cNvGrpSpPr/>
          <p:nvPr/>
        </p:nvGrpSpPr>
        <p:grpSpPr>
          <a:xfrm>
            <a:off x="8985240" y="-6480"/>
            <a:ext cx="1103400" cy="7570800"/>
            <a:chOff x="8985240" y="-6480"/>
            <a:chExt cx="1103400" cy="7570800"/>
          </a:xfrm>
        </p:grpSpPr>
        <p:pic>
          <p:nvPicPr>
            <p:cNvPr id="177" name="Obdélník 8" descr=""/>
            <p:cNvPicPr/>
            <p:nvPr/>
          </p:nvPicPr>
          <p:blipFill>
            <a:blip r:embed="rId3"/>
            <a:stretch/>
          </p:blipFill>
          <p:spPr>
            <a:xfrm>
              <a:off x="8985240" y="-6480"/>
              <a:ext cx="1103400" cy="757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988480" y="0"/>
              <a:ext cx="1092240" cy="75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1774440"/>
            <a:ext cx="798192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1" marL="573120" indent="-25092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2" marL="835200" indent="-250920">
              <a:spcBef>
                <a:spcPts val="663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3" marL="1108080" indent="-25092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4" marL="1409760" indent="-250920">
              <a:spcBef>
                <a:spcPts val="663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5" marL="140976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6" marL="140976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676760" y="7229520"/>
            <a:ext cx="2208240" cy="24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502920" y="7225920"/>
            <a:ext cx="4032360" cy="25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894360" y="7222680"/>
            <a:ext cx="64944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208F2B2-CB31-4D4F-8186-231F938CC192}" type="slidenum"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Obdélník 8"/>
          <p:cNvGrpSpPr/>
          <p:nvPr/>
        </p:nvGrpSpPr>
        <p:grpSpPr>
          <a:xfrm>
            <a:off x="8985240" y="-6480"/>
            <a:ext cx="1103400" cy="7570800"/>
            <a:chOff x="8985240" y="-6480"/>
            <a:chExt cx="1103400" cy="7570800"/>
          </a:xfrm>
        </p:grpSpPr>
        <p:pic>
          <p:nvPicPr>
            <p:cNvPr id="221" name="Obdélník 8" descr=""/>
            <p:cNvPicPr/>
            <p:nvPr/>
          </p:nvPicPr>
          <p:blipFill>
            <a:blip r:embed="rId3"/>
            <a:stretch/>
          </p:blipFill>
          <p:spPr>
            <a:xfrm>
              <a:off x="8985240" y="-6480"/>
              <a:ext cx="1103400" cy="757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988480" y="0"/>
              <a:ext cx="1092240" cy="75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352080"/>
            <a:ext cx="7981920" cy="126036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503280" y="1774440"/>
            <a:ext cx="798192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1" marL="573120" indent="-25092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2" marL="835200" indent="-250920">
              <a:spcBef>
                <a:spcPts val="663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3" marL="1108080" indent="-25092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4" marL="1409760" indent="-250920">
              <a:spcBef>
                <a:spcPts val="663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5" marL="140976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6" marL="1409760" indent="-25092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1" descr=""/>
          <p:cNvPicPr/>
          <p:nvPr/>
        </p:nvPicPr>
        <p:blipFill>
          <a:blip r:embed="rId1"/>
          <a:stretch/>
        </p:blipFill>
        <p:spPr>
          <a:xfrm>
            <a:off x="19080" y="1517760"/>
            <a:ext cx="9204120" cy="20667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471680" y="4319640"/>
            <a:ext cx="8609040" cy="180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15120" bIns="50400" anchor="ctr">
            <a:noAutofit/>
          </a:bodyPr>
          <a:p>
            <a:pPr marL="338040" indent="-338040">
              <a:lnSpc>
                <a:spcPct val="95000"/>
              </a:lnSpc>
              <a:spcBef>
                <a:spcPts val="663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Vytvořili: Daniel Šůna, Ondřej Kozák, David Čelakovský a Martin Štohanz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Rectangle 1" descr=""/>
          <p:cNvPicPr/>
          <p:nvPr/>
        </p:nvPicPr>
        <p:blipFill>
          <a:blip r:embed="rId1"/>
          <a:stretch/>
        </p:blipFill>
        <p:spPr>
          <a:xfrm>
            <a:off x="371520" y="549360"/>
            <a:ext cx="8985240" cy="127296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0" y="4427280"/>
            <a:ext cx="900000" cy="279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15120" bIns="50400" anchor="ctr">
            <a:noAutofit/>
          </a:bodyPr>
          <a:p>
            <a:pPr marL="376200" indent="-339840" algn="ctr">
              <a:lnSpc>
                <a:spcPct val="75000"/>
              </a:lnSpc>
              <a:spcBef>
                <a:spcPts val="663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76200" indent="-339840" algn="ctr">
              <a:lnSpc>
                <a:spcPct val="75000"/>
              </a:lnSpc>
              <a:spcBef>
                <a:spcPts val="663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76200" indent="-339840" algn="ctr">
              <a:lnSpc>
                <a:spcPct val="75000"/>
              </a:lnSpc>
              <a:spcBef>
                <a:spcPts val="663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76200" indent="-339840" algn="ctr">
              <a:lnSpc>
                <a:spcPct val="75000"/>
              </a:lnSpc>
              <a:spcBef>
                <a:spcPts val="663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76200" indent="-339840" algn="ctr">
              <a:lnSpc>
                <a:spcPct val="75000"/>
              </a:lnSpc>
              <a:spcBef>
                <a:spcPts val="663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76200" indent="-339840" algn="ctr">
              <a:lnSpc>
                <a:spcPct val="75000"/>
              </a:lnSpc>
              <a:spcBef>
                <a:spcPts val="663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76200" indent="-339840" algn="ctr">
              <a:lnSpc>
                <a:spcPct val="75000"/>
              </a:lnSpc>
              <a:spcBef>
                <a:spcPts val="663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76200" indent="-339840" algn="ctr">
              <a:lnSpc>
                <a:spcPct val="75000"/>
              </a:lnSpc>
              <a:spcBef>
                <a:spcPts val="663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600360" y="4356000"/>
          <a:ext cx="5081760" cy="3021120"/>
        </p:xfrm>
        <a:graphic>
          <a:graphicData uri="http://schemas.openxmlformats.org/drawingml/2006/table">
            <a:tbl>
              <a:tblPr/>
              <a:tblGrid>
                <a:gridCol w="506520"/>
                <a:gridCol w="507960"/>
                <a:gridCol w="507960"/>
                <a:gridCol w="507960"/>
                <a:gridCol w="509760"/>
                <a:gridCol w="506520"/>
                <a:gridCol w="507960"/>
                <a:gridCol w="507960"/>
                <a:gridCol w="507960"/>
                <a:gridCol w="511200"/>
              </a:tblGrid>
              <a:tr h="41364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591f4d"/>
                          </a:solidFill>
                          <a:latin typeface="Arial"/>
                          <a:ea typeface="Microsoft YaHei"/>
                        </a:rPr>
                        <a:t>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420e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</a:tr>
              <a:tr h="41364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591f4d"/>
                          </a:solidFill>
                          <a:latin typeface="Arial"/>
                          <a:ea typeface="Microsoft YaHei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420e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41364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591f4d"/>
                          </a:solidFill>
                          <a:latin typeface="Arial"/>
                          <a:ea typeface="Microsoft YaHei"/>
                        </a:rPr>
                        <a:t>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420e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41364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591f4d"/>
                          </a:solidFill>
                          <a:latin typeface="Arial"/>
                          <a:ea typeface="Microsoft YaHei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420e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41364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591f4d"/>
                          </a:solidFill>
                          <a:latin typeface="Arial"/>
                          <a:ea typeface="Microsoft YaHei"/>
                        </a:rPr>
                        <a:t>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420e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41364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591f4d"/>
                          </a:solidFill>
                          <a:latin typeface="Arial"/>
                          <a:ea typeface="Microsoft YaHei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420e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</a:tr>
              <a:tr h="41364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591f4d"/>
                          </a:solidFill>
                          <a:latin typeface="Arial"/>
                          <a:ea typeface="Microsoft YaHei"/>
                        </a:rPr>
                        <a:t>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420e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41364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591f4d"/>
                          </a:solidFill>
                          <a:latin typeface="Arial"/>
                          <a:ea typeface="Microsoft YaHei"/>
                        </a:rPr>
                        <a:t>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420e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293" name="Text Box 84"/>
          <p:cNvSpPr/>
          <p:nvPr/>
        </p:nvSpPr>
        <p:spPr>
          <a:xfrm>
            <a:off x="0" y="1924200"/>
            <a:ext cx="899964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.Přenosné USB zařízení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.Elektronické zařízení v učebně inf.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.Zařízení, které slouží k přenosu dat na papír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 4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.Prostor, na kterém jsou uložena data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5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.Operační systém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6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.Jednotka, která vyjadřuje velikost složky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7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.Počítačová síť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8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.Úložný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1" descr=""/>
          <p:cNvPicPr/>
          <p:nvPr/>
        </p:nvPicPr>
        <p:blipFill>
          <a:blip r:embed="rId1"/>
          <a:stretch/>
        </p:blipFill>
        <p:spPr>
          <a:xfrm>
            <a:off x="328680" y="549360"/>
            <a:ext cx="9028080" cy="127296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2"/>
          <p:cNvSpPr/>
          <p:nvPr/>
        </p:nvSpPr>
        <p:spPr>
          <a:xfrm>
            <a:off x="679320" y="2016000"/>
            <a:ext cx="88203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Hardware jsou součástky počítače bez nichž by nebyl schopen pracov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2"/>
          <a:stretch/>
        </p:blipFill>
        <p:spPr>
          <a:xfrm>
            <a:off x="4824360" y="2627280"/>
            <a:ext cx="4176720" cy="4392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Nadpis 2" descr=""/>
          <p:cNvPicPr/>
          <p:nvPr/>
        </p:nvPicPr>
        <p:blipFill>
          <a:blip r:embed="rId1"/>
          <a:stretch/>
        </p:blipFill>
        <p:spPr>
          <a:xfrm>
            <a:off x="225360" y="347760"/>
            <a:ext cx="8497800" cy="12729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-12960" y="2195640"/>
            <a:ext cx="7980120" cy="534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4840" bIns="50400" anchor="t">
            <a:normAutofit/>
          </a:bodyPr>
          <a:p>
            <a:pPr marL="447840" indent="-343080">
              <a:lnSpc>
                <a:spcPct val="90000"/>
              </a:lnSpc>
              <a:spcBef>
                <a:spcPts val="663"/>
              </a:spcBef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atří sem: Myš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343080">
              <a:lnSpc>
                <a:spcPct val="90000"/>
              </a:lnSpc>
              <a:spcBef>
                <a:spcPts val="663"/>
              </a:spcBef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343080">
              <a:lnSpc>
                <a:spcPct val="90000"/>
              </a:lnSpc>
              <a:spcBef>
                <a:spcPts val="663"/>
              </a:spcBef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343080">
              <a:lnSpc>
                <a:spcPct val="90000"/>
              </a:lnSpc>
              <a:spcBef>
                <a:spcPts val="663"/>
              </a:spcBef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rebuchet MS"/>
              </a:rPr>
              <a:t>    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Klávesnic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343080">
              <a:lnSpc>
                <a:spcPct val="90000"/>
              </a:lnSpc>
              <a:spcBef>
                <a:spcPts val="663"/>
              </a:spcBef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343080">
              <a:lnSpc>
                <a:spcPct val="90000"/>
              </a:lnSpc>
              <a:spcBef>
                <a:spcPts val="663"/>
              </a:spcBef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343080">
              <a:lnSpc>
                <a:spcPct val="90000"/>
              </a:lnSpc>
              <a:spcBef>
                <a:spcPts val="663"/>
              </a:spcBef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onito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343080">
              <a:lnSpc>
                <a:spcPct val="90000"/>
              </a:lnSpc>
              <a:spcBef>
                <a:spcPts val="663"/>
              </a:spcBef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343080">
              <a:lnSpc>
                <a:spcPct val="90000"/>
              </a:lnSpc>
              <a:spcBef>
                <a:spcPts val="663"/>
              </a:spcBef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343080">
              <a:lnSpc>
                <a:spcPct val="90000"/>
              </a:lnSpc>
              <a:spcBef>
                <a:spcPts val="663"/>
              </a:spcBef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eproduktor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343080">
              <a:lnSpc>
                <a:spcPct val="90000"/>
              </a:lnSpc>
              <a:spcBef>
                <a:spcPts val="663"/>
              </a:spcBef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343080">
              <a:lnSpc>
                <a:spcPct val="90000"/>
              </a:lnSpc>
              <a:spcBef>
                <a:spcPts val="663"/>
              </a:spcBef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343080">
              <a:lnSpc>
                <a:spcPct val="90000"/>
              </a:lnSpc>
              <a:spcBef>
                <a:spcPts val="663"/>
              </a:spcBef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čítačová skříň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2"/>
          <a:stretch/>
        </p:blipFill>
        <p:spPr>
          <a:xfrm>
            <a:off x="2706840" y="1682640"/>
            <a:ext cx="2592360" cy="1435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"/>
          <p:cNvPicPr/>
          <p:nvPr/>
        </p:nvPicPr>
        <p:blipFill>
          <a:blip r:embed="rId3"/>
          <a:stretch/>
        </p:blipFill>
        <p:spPr>
          <a:xfrm>
            <a:off x="5400720" y="2771640"/>
            <a:ext cx="3527280" cy="1729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"/>
          <p:cNvPicPr/>
          <p:nvPr/>
        </p:nvPicPr>
        <p:blipFill>
          <a:blip r:embed="rId4"/>
          <a:stretch/>
        </p:blipFill>
        <p:spPr>
          <a:xfrm>
            <a:off x="3306600" y="4067280"/>
            <a:ext cx="2089440" cy="1476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5"/>
          <a:stretch/>
        </p:blipFill>
        <p:spPr>
          <a:xfrm>
            <a:off x="5407200" y="4653000"/>
            <a:ext cx="3233520" cy="1781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"/>
          <p:cNvPicPr/>
          <p:nvPr/>
        </p:nvPicPr>
        <p:blipFill>
          <a:blip r:embed="rId6"/>
          <a:stretch/>
        </p:blipFill>
        <p:spPr>
          <a:xfrm>
            <a:off x="4351320" y="6051600"/>
            <a:ext cx="1368360" cy="14745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1" descr=""/>
          <p:cNvPicPr/>
          <p:nvPr/>
        </p:nvPicPr>
        <p:blipFill>
          <a:blip r:embed="rId1"/>
          <a:stretch/>
        </p:blipFill>
        <p:spPr>
          <a:xfrm>
            <a:off x="212760" y="347760"/>
            <a:ext cx="8516880" cy="12729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503280" y="1763640"/>
            <a:ext cx="38815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>
              <a:lnSpc>
                <a:spcPct val="100000"/>
              </a:lnSpc>
              <a:spcBef>
                <a:spcPts val="663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Comic Sans MS"/>
              </a:rPr>
              <a:t>Zvuková karta 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63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63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Comic Sans MS"/>
              </a:rPr>
              <a:t>Základní deska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63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63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Comic Sans MS"/>
              </a:rPr>
              <a:t>Grafická karta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63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63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Comic Sans MS"/>
              </a:rPr>
              <a:t>Procesor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63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63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63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63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06920" y="1763640"/>
            <a:ext cx="38815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>
              <a:lnSpc>
                <a:spcPct val="100000"/>
              </a:lnSpc>
              <a:spcBef>
                <a:spcPts val="663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Comic Sans MS"/>
              </a:rPr>
              <a:t>Pevný disk 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63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63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Comic Sans MS"/>
              </a:rPr>
              <a:t>Paměť RAM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63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63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Comic Sans MS"/>
              </a:rPr>
              <a:t>CD-ROM mechanika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63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576000" y="1547280"/>
            <a:ext cx="798012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4840" bIns="50400" anchor="t">
            <a:normAutofit/>
          </a:bodyPr>
          <a:p>
            <a:pPr marL="561960" indent="-455760">
              <a:lnSpc>
                <a:spcPct val="90000"/>
              </a:lnSpc>
              <a:spcBef>
                <a:spcPts val="663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Comic Sans MS"/>
              </a:rPr>
              <a:t>Paměť RAM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61960" indent="-455760">
              <a:lnSpc>
                <a:spcPct val="90000"/>
              </a:lnSpc>
              <a:spcBef>
                <a:spcPts val="663"/>
              </a:spcBef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61960" indent="-455760">
              <a:lnSpc>
                <a:spcPct val="90000"/>
              </a:lnSpc>
              <a:spcBef>
                <a:spcPts val="663"/>
              </a:spcBef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rebuchet MS"/>
              </a:rPr>
              <a:t>- používá se v počítačích a jiných elektronických přístrojích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561960" indent="-455760">
              <a:lnSpc>
                <a:spcPct val="90000"/>
              </a:lnSpc>
              <a:spcBef>
                <a:spcPts val="663"/>
              </a:spcBef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rebuchet MS"/>
              </a:rPr>
              <a:t>- velikosti RAM: od 64mb do 16 384mb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561960" indent="-455760">
              <a:lnSpc>
                <a:spcPct val="90000"/>
              </a:lnSpc>
              <a:spcBef>
                <a:spcPts val="663"/>
              </a:spcBef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561960" indent="-455760">
              <a:lnSpc>
                <a:spcPct val="90000"/>
              </a:lnSpc>
              <a:spcBef>
                <a:spcPts val="663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Comic Sans MS"/>
              </a:rPr>
              <a:t>Pevný disk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61960" indent="-455760">
              <a:lnSpc>
                <a:spcPct val="90000"/>
              </a:lnSpc>
              <a:spcBef>
                <a:spcPts val="663"/>
              </a:spcBef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61960" indent="-455760">
              <a:lnSpc>
                <a:spcPct val="90000"/>
              </a:lnSpc>
              <a:spcBef>
                <a:spcPts val="663"/>
              </a:spcBef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rebuchet MS"/>
              </a:rPr>
              <a:t>- slouží k dočasnému nebo trvalému uchování většího množství dat 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561960" indent="-455760">
              <a:lnSpc>
                <a:spcPct val="90000"/>
              </a:lnSpc>
              <a:spcBef>
                <a:spcPts val="663"/>
              </a:spcBef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rebuchet MS"/>
              </a:rPr>
              <a:t>- předchůdcem pevných disků je magnetická páska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4464000" y="3708360"/>
            <a:ext cx="4392720" cy="11746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"/>
          <p:cNvPicPr/>
          <p:nvPr/>
        </p:nvPicPr>
        <p:blipFill>
          <a:blip r:embed="rId2"/>
          <a:stretch/>
        </p:blipFill>
        <p:spPr>
          <a:xfrm>
            <a:off x="7056360" y="6292800"/>
            <a:ext cx="1963800" cy="1265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216000" y="2195280"/>
            <a:ext cx="8609040" cy="476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4840" bIns="50400" anchor="t">
            <a:normAutofit/>
          </a:bodyPr>
          <a:p>
            <a:pPr marL="561960" indent="-455760">
              <a:lnSpc>
                <a:spcPct val="80000"/>
              </a:lnSpc>
              <a:spcBef>
                <a:spcPts val="663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Comic Sans MS"/>
              </a:rPr>
              <a:t>CD-ROM mechanika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61960" indent="-45576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61960" indent="-45576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rebuchet MS"/>
              </a:rPr>
              <a:t>- kapacita média může být 650mb až 700mb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561960" indent="-45576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rebuchet MS"/>
              </a:rPr>
              <a:t>- data jsou ukládána do dlouhé spirály podobně jako na  gramofonové desce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561960" indent="-45576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561960" indent="-455760">
              <a:lnSpc>
                <a:spcPct val="80000"/>
              </a:lnSpc>
              <a:spcBef>
                <a:spcPts val="663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Comic Sans MS"/>
              </a:rPr>
              <a:t>Disketová mechanika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61960" indent="-45576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61960" indent="-45576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rebuchet MS"/>
              </a:rPr>
              <a:t>- umožňuje počítači načítat a ukládat data z disket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561960" indent="-45576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8400"/>
                <a:tab algn="l" pos="8167680"/>
                <a:tab algn="l" pos="8616960"/>
                <a:tab algn="l" pos="906624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rebuchet MS"/>
              </a:rPr>
              <a:t>- disketa je jediné přenosové médium kompatibilní se              staršími počítači, které nemají USB vstup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6973920" y="3851280"/>
            <a:ext cx="1994040" cy="15620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7174080" y="6296040"/>
            <a:ext cx="1793880" cy="1212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503280" y="1774440"/>
            <a:ext cx="798192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lnSpc>
                <a:spcPct val="100000"/>
              </a:lnSpc>
              <a:spcBef>
                <a:spcPts val="663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omic Sans MS"/>
              </a:rPr>
              <a:t>Základní deska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umožňuje zapojení procesoru a operační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aměti  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100000"/>
              </a:lnSpc>
              <a:spcBef>
                <a:spcPts val="663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omic Sans MS"/>
              </a:rPr>
              <a:t>Grafická karta 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9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tará se o zobrazení obrazu na monitoru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4824360" y="2793960"/>
            <a:ext cx="3745080" cy="2521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2"/>
          <a:stretch/>
        </p:blipFill>
        <p:spPr>
          <a:xfrm>
            <a:off x="6480000" y="6227640"/>
            <a:ext cx="2098800" cy="1114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03280" y="1774440"/>
            <a:ext cx="7981920" cy="534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lnSpc>
                <a:spcPct val="80000"/>
              </a:lnSpc>
              <a:spcBef>
                <a:spcPts val="663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000000"/>
                </a:solidFill>
                <a:uFillTx/>
                <a:latin typeface="Comic Sans MS"/>
              </a:rPr>
              <a:t>Zvuková karta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rozšiřující karta počítače pro vstup a výstup zvukového signálu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663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000000"/>
                </a:solidFill>
                <a:uFillTx/>
                <a:latin typeface="Comic Sans MS"/>
              </a:rPr>
              <a:t>Procesor: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500" spc="-1" strike="noStrike">
                <a:solidFill>
                  <a:srgbClr val="000000"/>
                </a:solidFill>
                <a:latin typeface="Comic Sans MS"/>
              </a:rPr>
              <a:t>-základní součást počítače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500" spc="-1" strike="noStrike">
                <a:solidFill>
                  <a:srgbClr val="000000"/>
                </a:solidFill>
                <a:latin typeface="Comic Sans MS"/>
              </a:rPr>
              <a:t>-nachází se na základní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cs-CZ" sz="2500" spc="-1" strike="noStrike">
                <a:solidFill>
                  <a:srgbClr val="000000"/>
                </a:solidFill>
                <a:latin typeface="Comic Sans MS"/>
              </a:rPr>
              <a:t>desce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500" spc="-1" strike="noStrike">
                <a:solidFill>
                  <a:srgbClr val="000000"/>
                </a:solidFill>
                <a:latin typeface="Comic Sans MS"/>
              </a:rPr>
              <a:t>-ovlivňuje výkon počítače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000000"/>
                </a:solidFill>
                <a:uFillTx/>
                <a:latin typeface="Comic Sans MS"/>
              </a:rPr>
              <a:t> 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000000"/>
                </a:solidFill>
                <a:uFillTx/>
                <a:latin typeface="Comic Sans MS"/>
              </a:rPr>
              <a:t> 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4608360" y="5508720"/>
            <a:ext cx="3757680" cy="19666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"/>
          <p:cNvPicPr/>
          <p:nvPr/>
        </p:nvPicPr>
        <p:blipFill>
          <a:blip r:embed="rId2"/>
          <a:stretch/>
        </p:blipFill>
        <p:spPr>
          <a:xfrm>
            <a:off x="5472000" y="2627280"/>
            <a:ext cx="2756160" cy="1873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Rectangle 1" descr=""/>
          <p:cNvPicPr/>
          <p:nvPr/>
        </p:nvPicPr>
        <p:blipFill>
          <a:blip r:embed="rId1"/>
          <a:stretch/>
        </p:blipFill>
        <p:spPr>
          <a:xfrm>
            <a:off x="463680" y="549360"/>
            <a:ext cx="8893080" cy="12729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720720" y="2076120"/>
            <a:ext cx="8609040" cy="476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4840" bIns="50400" anchor="t">
            <a:normAutofit/>
          </a:bodyPr>
          <a:p>
            <a:pPr marL="430200" indent="-320760">
              <a:lnSpc>
                <a:spcPct val="90000"/>
              </a:lnSpc>
              <a:spcBef>
                <a:spcPts val="663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1. Vyjmenujte všechny části hardwaru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30200" indent="-320760">
              <a:lnSpc>
                <a:spcPct val="90000"/>
              </a:lnSpc>
              <a:spcBef>
                <a:spcPts val="663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2. K čemu slouží základní deska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30200" indent="-320760">
              <a:lnSpc>
                <a:spcPct val="90000"/>
              </a:lnSpc>
              <a:spcBef>
                <a:spcPts val="663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3. Kde se používá paměť RAM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30200" indent="-320760">
              <a:lnSpc>
                <a:spcPct val="90000"/>
              </a:lnSpc>
              <a:spcBef>
                <a:spcPts val="663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4. Co je předchůdcem pevných disků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30200" indent="-320760">
              <a:lnSpc>
                <a:spcPct val="90000"/>
              </a:lnSpc>
              <a:spcBef>
                <a:spcPts val="663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5. Jaká je kapacita CD-ROM mechaniky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30200" indent="-320760">
              <a:lnSpc>
                <a:spcPct val="90000"/>
              </a:lnSpc>
              <a:spcBef>
                <a:spcPts val="663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6. Jaká je výhoda disketové mechaniky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30200" indent="-320760">
              <a:lnSpc>
                <a:spcPct val="90000"/>
              </a:lnSpc>
              <a:spcBef>
                <a:spcPts val="663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30200" indent="-320760">
              <a:lnSpc>
                <a:spcPct val="90000"/>
              </a:lnSpc>
              <a:spcBef>
                <a:spcPts val="663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Trebuchet MS"/>
              </a:rPr>
              <a:t>BONUS PRO CHYTRÉ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30200" indent="-320760">
              <a:lnSpc>
                <a:spcPct val="90000"/>
              </a:lnSpc>
              <a:spcBef>
                <a:spcPts val="663"/>
              </a:spcBef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30200" indent="-320760">
              <a:lnSpc>
                <a:spcPct val="90000"/>
              </a:lnSpc>
              <a:spcBef>
                <a:spcPts val="663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Velikost paměti RAM (od-do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12:41:39Z</dcterms:created>
  <dc:creator/>
  <dc:description/>
  <dc:language>en-US</dc:language>
  <cp:lastModifiedBy>phochman</cp:lastModifiedBy>
  <dcterms:modified xsi:type="dcterms:W3CDTF">2012-11-08T10:17:25Z</dcterms:modified>
  <cp:revision>13</cp:revision>
  <dc:subject/>
  <dc:title>Hardware uvnitř počítače</dc:title>
</cp:coreProperties>
</file>