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27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0E25-12F9-445E-B96D-FABD73EEB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DC45-C8A6-42B1-9E20-922D2307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5098-1DCE-413C-A592-C57E282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6598-E5E5-4857-B90B-846E16953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C2CEE-A223-452B-B616-875FA53C3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183D6-A1FD-4BAE-BFF8-BBC576B8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6CBF3-B65D-4D93-B738-5BD62179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435EA-11F3-43C6-B30C-E0A6B67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520FB-8CAA-4C2E-BE07-E3779DC8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3D11-A43F-4968-9161-D91FFABB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18CF6-2607-42A6-A51C-E0B8148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CEF7-8193-4DA4-B283-367CDAF1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E2074-2B9E-4BF2-9071-C9980B8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5DA31-431A-4466-AC23-1C44E677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D6E37-E8D0-4B3F-AA79-DA4FA38E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B4E2E-A62A-45BD-A1C2-CE5E4E8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2E8E2-4B35-44A9-8651-5D57EFA5C3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A35B-A0B8-45BA-9C53-CDE7B40C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468E-8BE0-4B21-95A4-58DB8053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2901-1739-4007-AACC-E28BA9CE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7B40-E7A7-4503-85AA-DFE50BCF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1EB3C-3718-4B47-A843-1D9D4C28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DAAC-0D84-4695-993B-5D4166D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04B5-98AB-40E3-B862-124DFAC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6760" cy="12207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Franklin Gothic Book"/>
              </a:rPr>
              <a:t>13.12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cs-CZ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98A7F0C-FBE5-47C0-B815-AAA46704345F}" type="slidenum">
              <a:rPr b="0" lang="cs-CZ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3000"/>
          </a:bodyPr>
          <a:p>
            <a:pPr marL="31896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18960" indent="-3189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18960" indent="-3189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18960" indent="-3189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18960" indent="-3189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18960" indent="-3189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18960" indent="-3189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Franklin Gothic Book"/>
              </a:rPr>
              <a:t>13.12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cs-CZ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6D10776-728D-4D43-B3A5-4F4BC8153D75}" type="slidenum">
              <a:rPr b="0" lang="cs-CZ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-ybWlRyv70" TargetMode="External"/><Relationship Id="rId2" Type="http://schemas.openxmlformats.org/officeDocument/2006/relationships/hyperlink" Target="http://www.youtube.com/watch?v=7-ybWlRyv70" TargetMode="External"/><Relationship Id="rId3" Type="http://schemas.openxmlformats.org/officeDocument/2006/relationships/hyperlink" Target="http://www.youtube.com/watch?v=7-ybWlRyv70" TargetMode="External"/><Relationship Id="rId4" Type="http://schemas.openxmlformats.org/officeDocument/2006/relationships/hyperlink" Target="http://www.youtube.com/watch?v=7-ybWlRyv70" TargetMode="External"/><Relationship Id="rId5" Type="http://schemas.openxmlformats.org/officeDocument/2006/relationships/hyperlink" Target="http://www.youtube.com/watch?v=7-ybWlRyv70" TargetMode="External"/><Relationship Id="rId6" Type="http://schemas.openxmlformats.org/officeDocument/2006/relationships/hyperlink" Target="http://www.youtube.com/watch?v=7-ybWlRyv70" TargetMode="External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2133720"/>
            <a:ext cx="7343640" cy="395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cc00ff"/>
                </a:solidFill>
                <a:latin typeface="Gill Sans Ultra Bold"/>
              </a:rPr>
              <a:t>Hygienická a bezpečnostní pravidla  při práci s počítače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Klávesnice a myš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olest zápěstí a problémy s předloktími a ram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odložka s polštář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lochá kláves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80000" y="4653000"/>
            <a:ext cx="2879640" cy="1671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2971800" cy="1533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Pauzy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o 20 minutách – 5 mi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o 1 hodině – 20 mi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27640" y="443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323856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255600" y="-25560"/>
            <a:ext cx="6267600" cy="3525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289320" y="0"/>
            <a:ext cx="58546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Bezpečnostní pravidl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314280" y="1521000"/>
            <a:ext cx="868680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Pokud odcházíte od počítače na krátkou dobu, nevypínejte 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Neumísťujte počítač do míst s velkými teplotními rozd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Počítač umístěte na pevném stole. Stálé otřesy počítači nesvědč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Do zásuvky s počítačem nezapínejte další elektrické spotřebič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Počítači nesvědčí prašné prostředí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Při zapínání počítače nejprve zapněte všechny periferie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360" y="42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Kvíz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"/>
          <p:cNvSpPr/>
          <p:nvPr/>
        </p:nvSpPr>
        <p:spPr>
          <a:xfrm>
            <a:off x="314280" y="15937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Co je to Ergonom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jmenuj alespoň dvě příčiny bolesti tě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Jak časté mají být pauz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Jaká jsou bezpečnostní pravidl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00720" y="4500720"/>
            <a:ext cx="2340000" cy="19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Prezentaci vytvořily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ára Douš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Aneta Krau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ivien Etlí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arolína Lex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Co SE DNES DOZVÍT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"/>
          <p:cNvSpPr/>
          <p:nvPr/>
        </p:nvSpPr>
        <p:spPr>
          <a:xfrm>
            <a:off x="314280" y="15937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Definice po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acov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rg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ezpečnostní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ávěrečný kví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27640" y="4869000"/>
            <a:ext cx="2629080" cy="174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742760" cy="261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1368360" cy="193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284720" y="1413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Definice pojmů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Hygi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rg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očítačová bezp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472428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Pracovní prostředí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rientace 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onitory bez zrca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 počítač max. na 2 ž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ožnost regulace světla, žaluziemi,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817640" cy="206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55640" y="4835520"/>
            <a:ext cx="23036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Ergonomi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naží se pomoci vzrůstajícímu se svalového a kosterního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1"/>
              </a:rPr>
              <a:t>http://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2"/>
              </a:rPr>
              <a:t>www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3"/>
              </a:rPr>
              <a:t>youtube.com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4"/>
              </a:rPr>
              <a:t>/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5"/>
              </a:rPr>
              <a:t>watch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Franklin Gothic Book"/>
                <a:hlinkClick r:id="rId6"/>
              </a:rPr>
              <a:t>?v=7-ybWlRyv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Co je  příčinou bolesti různých částí těla?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Špatné držení tě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Špatné nastavení moni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lávesnice a my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ýška ži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Typy skel v brýl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286680" y="1268280"/>
            <a:ext cx="248760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00080" y="48974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Špatné nastavení židle způsobuje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olest z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horšená koncen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Ú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revní oběh v ru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Upozornění: Notebook nepatřína klí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80360" y="1268280"/>
            <a:ext cx="1224000" cy="163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83400" y="52452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Špatné nastavení monitoru způsobuje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4400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olest krčních sva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špatné držení krku a páteře a to může půso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jiné problé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horní okraj monitoru má být ve výšce o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zdálenost – natažená ru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00720" y="479736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2-12-09T20:41:09Z</dcterms:modified>
  <cp:revision>1</cp:revision>
  <dc:subject/>
  <dc:title/>
</cp:coreProperties>
</file>